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4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F98F-450E-4F7A-834A-3C809DDBF2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Engineers can alter the DNA code of living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genic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Engineers can alter the DNA code of living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genic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DNA in a Goa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oat contains a human gene that codes for a blood clotting agent.  The blood clotting agent can be harvested in the goat’s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G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DNA in a Goa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oat contains a human gene that codes for a blood clotting agent.  The blood clotting agent can be harvested in the goat’s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G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red DNA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d to an egg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Create 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A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red DNA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d to an egg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Create 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A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 Ha H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 Ha H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me Scene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me Scene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 allows scientists to make many copies of  a piece of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the DNA so it “unzip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Add the complementary nitrogenous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Allow DNA to cool so the complementary strands can “zip”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 allows scientists to make many copies of  a piece of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the DNA so it “unzip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Add the complementary nitrogenous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Allow DNA to cool so the complementary strands can “zip”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chnology allows scientists to identify someone’s DN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chnology allows scientists to identify someone’s DN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volved in 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 “Cut” DNA sample with restriction enzy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 Run the DNA fragments through a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 Bands will form in the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Everyone’s DNA bands are unique and can be used to identify a per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 DNA bands are like “genetic fingerprint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volved in 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 “Cut” DNA sample with restriction enzy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 Run the DNA fragments through a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 Bands will form in the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Everyone’s DNA bands are unique and can be used to identify a per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 DNA bands are like “genetic fingerprint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ed only those plants or animals with desirable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have been using selective breeding for 1000’s of years with farm crops and domesticated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ed only those plants or animals with desirable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have been using selective breeding for 1000’s of years with farm crops and domesticated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to combine the DNA of one organism with the DNA of another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DNA technology was first used in the 1970’s with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to combine the DNA of one organism with the DNA of another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DNA technology was first used in the 1970’s with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 bacterial DNA (plasmi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the Bacterial DNA with “restriction enzym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the DNA from another organism with “restriction enzym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the cut pieces of DNA together with another enzyme and insert them into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 the recombinant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eign genes will be expressed in the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 bacterial DNA (plasmi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the Bacterial DNA with “restriction enzym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the DNA from another organism with “restriction enzym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the cut pieces of DNA together with another enzyme and insert them into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 the recombinant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eign genes will be expressed in the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Recombinant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an make human insulin or human growth horm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an be engineered to “eat” oil sp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Recombinant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an make human insulin or human growth horm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an be engineered to “eat” oil sp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of plants and anim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an also be altered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-resistant and insect-resistant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 Hardier fru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 70-75% of food in supermarket is genetically mod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of plants and anim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an also be altered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-resistant and insect-resistant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 Hardier fru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 70-75% of food in supermarket is genetically mod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Create a Genetical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ed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Create recombinant   bacteria with desired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Allow the bacteria to “infect" the plant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Desired gene is inserted into plant chromos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Create a Genetical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ed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Create recombinant   bacteria with desired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Allow the bacteria to “infect" the plant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Desired gene is inserted into plant chromos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about eating genetically modified foo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about eating genetically modified foo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modified organisms are called transgenic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e – used to study human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ens – more resistant to inf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s – increase milk supply and leaner m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Goats, sheep and pigs – produce human proteins in their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modified organisms are called transgenic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e – used to study human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ens – more resistant to inf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s – increase milk supply and leaner m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Goats, sheep and pigs – produce human proteins in their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9433-5035-4D90-B77B-06626914B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BC21-965F-4869-997D-C9361087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B968-A544-4CD1-BC43-A2BE4A141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54A1-8FB1-45BF-A7C2-C90BDFDA2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BE3B-60ED-464A-B2BA-6510BDC7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DF48-119C-4DC5-BFD2-E92EB26A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31DE-400E-4949-910D-4AA2C465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B5C7-F681-4654-8642-837383CC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1C8C-A99B-46E1-A90F-C843B66E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AA04-AEB1-4480-A7AB-2A6AA328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DA23-A0B0-41D5-9305-E899C68E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4C06-4387-4B4B-85AD-D77D7DB2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2C97-2699-4126-9E71-D5C72F064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umanasinc.com/webcontent/animations/content/pcr.html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dnalc.org/ddnalc/resources/electrophoresis.html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 Engineers can alter the DNA code of living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genic 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dna_rgb"/>
          <p:cNvPicPr/>
          <p:nvPr/>
        </p:nvPicPr>
        <p:blipFill>
          <a:blip r:embed="rId1"/>
          <a:stretch/>
        </p:blipFill>
        <p:spPr>
          <a:xfrm>
            <a:off x="838080" y="3886200"/>
            <a:ext cx="2743200" cy="21938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447920" y="55627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DNA in a Goat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5105520" y="4876920"/>
            <a:ext cx="3429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goat contains a human gene that codes for a blood clotting agent.  The blood clotting agent can be harvested in the goat’s mil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6462360" y="4684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intro"/>
          <p:cNvPicPr/>
          <p:nvPr/>
        </p:nvPicPr>
        <p:blipFill>
          <a:blip r:embed="rId1"/>
          <a:stretch/>
        </p:blipFill>
        <p:spPr>
          <a:xfrm>
            <a:off x="304920" y="1676520"/>
            <a:ext cx="4038480" cy="3589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_41371368_atryn_goat_bbc_203"/>
          <p:cNvPicPr/>
          <p:nvPr/>
        </p:nvPicPr>
        <p:blipFill>
          <a:blip r:embed="rId2"/>
          <a:stretch/>
        </p:blipFill>
        <p:spPr>
          <a:xfrm>
            <a:off x="5257800" y="2057400"/>
            <a:ext cx="3048120" cy="2282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5"/>
          <p:cNvSpPr/>
          <p:nvPr/>
        </p:nvSpPr>
        <p:spPr>
          <a:xfrm>
            <a:off x="1143000" y="304920"/>
            <a:ext cx="6781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2280600" y="407880"/>
            <a:ext cx="418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genic Go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transgencalf"/>
          <p:cNvPicPr/>
          <p:nvPr/>
        </p:nvPicPr>
        <p:blipFill>
          <a:blip r:embed="rId1"/>
          <a:stretch/>
        </p:blipFill>
        <p:spPr>
          <a:xfrm>
            <a:off x="685800" y="1371600"/>
            <a:ext cx="3859200" cy="49989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9"/>
          <p:cNvSpPr/>
          <p:nvPr/>
        </p:nvSpPr>
        <p:spPr>
          <a:xfrm>
            <a:off x="6537240" y="1109520"/>
            <a:ext cx="184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5334120" y="2286000"/>
            <a:ext cx="3124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red DNA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ed to an egg c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to Create a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genic Ani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3a2c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a Ha H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shr0200l"/>
          <p:cNvPicPr/>
          <p:nvPr/>
        </p:nvPicPr>
        <p:blipFill>
          <a:blip r:embed="rId1"/>
          <a:stretch/>
        </p:blipFill>
        <p:spPr>
          <a:xfrm>
            <a:off x="3048120" y="1981080"/>
            <a:ext cx="3076560" cy="381024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tic Engineering an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rime Scene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lemontree"/>
          <p:cNvPicPr/>
          <p:nvPr/>
        </p:nvPicPr>
        <p:blipFill>
          <a:blip r:embed="rId1"/>
          <a:stretch/>
        </p:blipFill>
        <p:spPr>
          <a:xfrm>
            <a:off x="1066680" y="1905120"/>
            <a:ext cx="6743880" cy="47624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R allows scientists to make many copies of  a piece of D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the DNA so it “unzip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Add the complementary nitrogenous 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Allow DNA to cool so the complementary strands can “zip”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biol_03_img03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600200"/>
            <a:ext cx="2400480" cy="499104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l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echnology allows scientists to identify someone’s DN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gel_plate_600"/>
          <p:cNvPicPr/>
          <p:nvPr/>
        </p:nvPicPr>
        <p:blipFill>
          <a:blip r:embed="rId1"/>
          <a:stretch/>
        </p:blipFill>
        <p:spPr>
          <a:xfrm>
            <a:off x="4952880" y="2209680"/>
            <a:ext cx="3086280" cy="411480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47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e5f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eps Involved in Gel Electrophor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 “Cut” DNA sample with restriction enzy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 Run the DNA fragments through a g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Bands will form in the g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Everyone’s DNA bands are unique and can be used to identify a per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  DNA bands are like “genetic fingerprint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I11-50-gelectrophoresi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1981080"/>
            <a:ext cx="4572000" cy="31086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efa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ed only those plants or animals with desirable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have been using selective breeding for 1000’s of years with farm crops and domesticated anim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bio_dogs"/>
          <p:cNvPicPr/>
          <p:nvPr/>
        </p:nvPicPr>
        <p:blipFill>
          <a:blip r:embed="rId1"/>
          <a:stretch/>
        </p:blipFill>
        <p:spPr>
          <a:xfrm>
            <a:off x="5334120" y="1447920"/>
            <a:ext cx="3047760" cy="1638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daffadil2_s"/>
          <p:cNvPicPr/>
          <p:nvPr/>
        </p:nvPicPr>
        <p:blipFill>
          <a:blip r:embed="rId2"/>
          <a:stretch/>
        </p:blipFill>
        <p:spPr>
          <a:xfrm>
            <a:off x="6553080" y="3200400"/>
            <a:ext cx="2057400" cy="141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CaulliDM_468x518"/>
          <p:cNvPicPr/>
          <p:nvPr/>
        </p:nvPicPr>
        <p:blipFill>
          <a:blip r:embed="rId3"/>
          <a:stretch/>
        </p:blipFill>
        <p:spPr>
          <a:xfrm>
            <a:off x="6629400" y="4876920"/>
            <a:ext cx="1677960" cy="1857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300px-Jersey_cattle_in_Jersey"/>
          <p:cNvPicPr/>
          <p:nvPr/>
        </p:nvPicPr>
        <p:blipFill>
          <a:blip r:embed="rId4"/>
          <a:stretch/>
        </p:blipFill>
        <p:spPr>
          <a:xfrm>
            <a:off x="4876920" y="3352680"/>
            <a:ext cx="1428480" cy="19051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75e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bility to combine the DNA of one organism with the DNA of another organ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binant DNA technology was first used in the 1970’s with bac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12"/>
          <p:cNvPicPr/>
          <p:nvPr/>
        </p:nvPicPr>
        <p:blipFill>
          <a:blip r:embed="rId1"/>
          <a:stretch/>
        </p:blipFill>
        <p:spPr>
          <a:xfrm>
            <a:off x="4952880" y="160020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ombinant Bac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bacterial DNA (plasmi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 the Bacterial DNA with “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restriction enzy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 the DNA from another organism with “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restriction enzyme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 the cut pieces of DNA together with another enzyme and insert them into bac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e the recombinant bac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eign genes will be expressed in the bac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DNAtwo"/>
          <p:cNvPicPr/>
          <p:nvPr/>
        </p:nvPicPr>
        <p:blipFill>
          <a:blip r:embed="rId1"/>
          <a:stretch/>
        </p:blipFill>
        <p:spPr>
          <a:xfrm>
            <a:off x="152280" y="2057400"/>
            <a:ext cx="4286520" cy="374328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dfb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nefits of Recombinant Bac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can make human insulin or human growth horm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can be engineered to “eat” oil sp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346917"/>
          <p:cNvPicPr/>
          <p:nvPr/>
        </p:nvPicPr>
        <p:blipFill>
          <a:blip r:embed="rId1"/>
          <a:stretch/>
        </p:blipFill>
        <p:spPr>
          <a:xfrm>
            <a:off x="3200400" y="4267080"/>
            <a:ext cx="4114800" cy="20574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DNA of plants and animal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an also be altered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PL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disease-resistant and insect-resistant cr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2.   Hardier fru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3.   70-75% of food in supermarket is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genetically modif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food-genetically_modified_organisms_01"/>
          <p:cNvPicPr/>
          <p:nvPr/>
        </p:nvPicPr>
        <p:blipFill>
          <a:blip r:embed="rId1"/>
          <a:stretch/>
        </p:blipFill>
        <p:spPr>
          <a:xfrm>
            <a:off x="4724280" y="1828800"/>
            <a:ext cx="1492200" cy="1905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_128926_gm_food_300_(08-07-98)_grab"/>
          <p:cNvPicPr/>
          <p:nvPr/>
        </p:nvPicPr>
        <p:blipFill>
          <a:blip r:embed="rId2"/>
          <a:stretch/>
        </p:blipFill>
        <p:spPr>
          <a:xfrm>
            <a:off x="4648320" y="4572000"/>
            <a:ext cx="2857320" cy="1714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persp18_22"/>
          <p:cNvPicPr/>
          <p:nvPr/>
        </p:nvPicPr>
        <p:blipFill>
          <a:blip r:embed="rId3"/>
          <a:stretch/>
        </p:blipFill>
        <p:spPr>
          <a:xfrm>
            <a:off x="6400800" y="2514600"/>
            <a:ext cx="2381400" cy="190512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to Create a Genetically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dified Pl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00600" y="1981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Create recombinant   bacteria with desired g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llow the bacteria to “infect" the plant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esired gene is inserted into plant chromos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transgeniccrop"/>
          <p:cNvPicPr/>
          <p:nvPr/>
        </p:nvPicPr>
        <p:blipFill>
          <a:blip r:embed="rId1"/>
          <a:stretch/>
        </p:blipFill>
        <p:spPr>
          <a:xfrm>
            <a:off x="609480" y="2286000"/>
            <a:ext cx="3762360" cy="256212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3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a3ffa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o you think about eating genetically modified foo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nrg0301_217a_i1"/>
          <p:cNvPicPr/>
          <p:nvPr/>
        </p:nvPicPr>
        <p:blipFill>
          <a:blip r:embed="rId1"/>
          <a:stretch/>
        </p:blipFill>
        <p:spPr>
          <a:xfrm>
            <a:off x="5486400" y="2971800"/>
            <a:ext cx="2857680" cy="3048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shr0795l"/>
          <p:cNvPicPr/>
          <p:nvPr/>
        </p:nvPicPr>
        <p:blipFill>
          <a:blip r:embed="rId2"/>
          <a:stretch/>
        </p:blipFill>
        <p:spPr>
          <a:xfrm>
            <a:off x="685800" y="2209680"/>
            <a:ext cx="3448080" cy="38102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dadad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tically modified organisms are called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transgenic organism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NSGENIC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e – used to study human immun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ckens – more resistant to inf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ws – increase milk supply and leaner m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Goats, sheep and pigs – produce human proteins in their mi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chicken160107"/>
          <p:cNvPicPr/>
          <p:nvPr/>
        </p:nvPicPr>
        <p:blipFill>
          <a:blip r:embed="rId1"/>
          <a:stretch/>
        </p:blipFill>
        <p:spPr>
          <a:xfrm>
            <a:off x="4724280" y="2133720"/>
            <a:ext cx="1905120" cy="2609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transgenic_mice"/>
          <p:cNvPicPr/>
          <p:nvPr/>
        </p:nvPicPr>
        <p:blipFill>
          <a:blip r:embed="rId2"/>
          <a:stretch/>
        </p:blipFill>
        <p:spPr>
          <a:xfrm>
            <a:off x="6858000" y="3505320"/>
            <a:ext cx="1809720" cy="18763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22:09:59Z</dcterms:created>
  <dc:creator>Tim Lally</dc:creator>
  <dc:description/>
  <dc:language>en-US</dc:language>
  <cp:lastModifiedBy>LEGION2</cp:lastModifiedBy>
  <dcterms:modified xsi:type="dcterms:W3CDTF">2016-01-12T10:50:21Z</dcterms:modified>
  <cp:revision>104</cp:revision>
  <dc:subject/>
  <dc:title>Genetic Engineering</dc:title>
</cp:coreProperties>
</file>